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A2FC-757F-4DB1-8F81-16E67C97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877-FF57-40E4-925F-7FD229DB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888-2F9C-4C6A-A078-1EDC3835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46B-B190-4716-92E9-4B7A7E9C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4BE-8A48-4B4E-8F1B-DC0D2945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CE14-41EB-49C8-8CEE-776C2215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BDD8-8977-40DE-9656-D70F8A86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0C0-9834-4D0B-922C-63E5C327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CD2-DACB-4B7A-9E9D-4925F818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1CE-9AAB-45CA-BEE9-F2EC5BA8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DDCF-B66C-4AE5-B486-C4D51654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CB9-FC4B-41D7-8990-8F463C5A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6FBE-0796-48BC-989D-B1AE416E9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ople in Our  Community</a:t>
            </a:r>
            <a:br>
              <a:rPr sz="5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Alphabe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K-3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79 The Cresto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92560" cy="244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18748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X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Y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6:02:21Z</dcterms:created>
  <dc:creator>NYCDOE</dc:creator>
  <dc:description/>
  <dc:language>en-US</dc:language>
  <cp:lastModifiedBy>NYCDOE</cp:lastModifiedBy>
  <dcterms:modified xsi:type="dcterms:W3CDTF">2008-01-22T18:18:28Z</dcterms:modified>
  <cp:revision>3</cp:revision>
  <dc:subject/>
  <dc:title>Slide 1</dc:title>
</cp:coreProperties>
</file>