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932-08E1-4DAD-94A6-964FE54D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B99-5CE7-4E51-A1C3-D4C41A16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594-05CE-448F-AC0D-84D74F08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3BC-66F9-4EF5-A3B3-BFEF7887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DC9-0780-4B19-A23A-03C55091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98F-1F3C-4803-B330-2801FB02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CCB-DBE7-4956-80E4-714F599A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FD1-7B92-47AF-9DE3-5221762D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BFD-2946-4AFB-A967-5E2557F1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627-9D9A-4C8B-ADFE-667A15A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340-70DB-4AE4-A8F1-EBD8608F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696-D672-4D57-B220-5CC3F4E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1BF0-6286-4B67-836A-1ED975313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ople in Our  Community</a:t>
            </a:r>
            <a:br>
              <a:rPr sz="5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lphabe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K-3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79 The Cresto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92560" cy="24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18748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X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6:02:21Z</dcterms:created>
  <dc:creator>NYCDOE</dc:creator>
  <dc:description/>
  <dc:language>en-US</dc:language>
  <cp:lastModifiedBy>NYCDOE</cp:lastModifiedBy>
  <dcterms:modified xsi:type="dcterms:W3CDTF">2008-01-22T18:18:28Z</dcterms:modified>
  <cp:revision>3</cp:revision>
  <dc:subject/>
  <dc:title>Slide 1</dc:title>
</cp:coreProperties>
</file>