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2FE-D83E-4789-9B38-58B7E1AC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011-FC24-47D4-A12F-82FB0B65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249-13E2-4FDF-B507-438555E2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F68-8319-4484-B44F-9081EF92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93A-5EA5-4417-8C38-6F02BF9A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04D-D95D-4648-A2C5-FA23D729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766-301B-4F0C-AFB6-E10B57AD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D2DC-8FCC-49D6-9B96-099CF918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1E8-AED2-49B3-A949-D80DC199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57C-A396-41D2-8812-6B302690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1A8-58BD-4D28-9BD2-5E769E11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94D8-278A-4B5F-8F3C-2DA87F04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439F-6DC7-4433-96B1-1CBE8688A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ople in Our  Community</a:t>
            </a:r>
            <a:br>
              <a:rPr sz="5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Alphabe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K-3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79 The Cresto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92560" cy="244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18748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X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6:02:21Z</dcterms:created>
  <dc:creator>NYCDOE</dc:creator>
  <dc:description/>
  <dc:language>en-US</dc:language>
  <cp:lastModifiedBy>NYCDOE</cp:lastModifiedBy>
  <dcterms:modified xsi:type="dcterms:W3CDTF">2008-01-22T18:18:28Z</dcterms:modified>
  <cp:revision>3</cp:revision>
  <dc:subject/>
  <dc:title>Slide 1</dc:title>
</cp:coreProperties>
</file>