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8A1-5E81-4C99-B8D5-81813EC7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D94-F743-4ABD-847A-60619793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1A8-C895-43FB-8971-9F2D7319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33A-CE4A-4FB3-BDA0-20D0C99C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FD6-8BE0-4FE9-8CD8-F7EAA20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466-43B6-4D70-B6D5-C250B435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AD3-2387-42D3-BB4F-489E4D4E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94C-2986-467F-BBB9-1AD4C71C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F32-2B9A-4D4F-811E-836CDB4D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707-6DE8-4F52-A7A4-708A73B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989-70AA-42A0-8385-F7F554F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4EF-E969-491B-AE0B-6350661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893A-369F-4BFE-AEBE-C4A2D3F3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ople in Our  Community</a:t>
            </a: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lphabe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K-3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79 The Cresto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92560" cy="24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8748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X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6:02:21Z</dcterms:created>
  <dc:creator>NYCDOE</dc:creator>
  <dc:description/>
  <dc:language>en-US</dc:language>
  <cp:lastModifiedBy>NYCDOE</cp:lastModifiedBy>
  <dcterms:modified xsi:type="dcterms:W3CDTF">2008-01-22T18:18:28Z</dcterms:modified>
  <cp:revision>3</cp:revision>
  <dc:subject/>
  <dc:title>Slide 1</dc:title>
</cp:coreProperties>
</file>