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E17-10C8-4408-8397-9676CF60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3EF-DFF7-41FD-B45E-BBA9C95E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46A-B557-43BC-ACDE-C1CBD95B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961-4817-4A46-8E07-DEDA7A9E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5E3-DBE1-4834-838C-5D065DD3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0B6-0701-42AF-AEDF-18390C44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EE5-ED67-4725-82B4-DC4CC615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3A2-A233-419F-8DC1-47F2073A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E02-82CE-44EC-BC71-D87223F7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B52-ECB8-4BC8-92F8-EA224046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FD2-23C9-4962-96F2-45DDAF79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EC1-DDE0-42DC-B538-26CFC064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864C-39CF-4A54-B61C-4FE7F8D99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ople in Our  Community</a:t>
            </a:r>
            <a:br>
              <a:rPr sz="5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Alphabe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K-3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79 The Cresto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92560" cy="244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18748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X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6:02:21Z</dcterms:created>
  <dc:creator>NYCDOE</dc:creator>
  <dc:description/>
  <dc:language>en-US</dc:language>
  <cp:lastModifiedBy>NYCDOE</cp:lastModifiedBy>
  <dcterms:modified xsi:type="dcterms:W3CDTF">2008-01-22T18:18:28Z</dcterms:modified>
  <cp:revision>3</cp:revision>
  <dc:subject/>
  <dc:title>Slide 1</dc:title>
</cp:coreProperties>
</file>