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53C-1749-434B-AEE6-66A04EE9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6E9-41AF-41A8-B25B-5AB8A68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7B1-99FA-4C59-8FCC-4990539B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EB4-D2CB-477D-9795-FD330604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1C2-E8EA-4D11-BE2B-5598FF31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D1E-A188-4CFE-89AA-B9830CE0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436-BCCC-4BE4-BAB6-94DBED7B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F82-AA2A-40D0-BEB2-519DEF9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D55-3A4A-4D3D-AC8A-B9E7880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8A1-30F2-421D-89A7-C622DC01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B78-EBBE-43EC-993A-38DDE21B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92F-E341-4A9B-8FF3-43B49520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0FF6-123A-497C-85CB-48E8E9F8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ople in Our  Community</a:t>
            </a: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lphabe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K-3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79 The Cresto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92560" cy="24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18748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X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914400" y="3049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 is fo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6:02:21Z</dcterms:created>
  <dc:creator>NYCDOE</dc:creator>
  <dc:description/>
  <dc:language>en-US</dc:language>
  <cp:lastModifiedBy>NYCDOE</cp:lastModifiedBy>
  <dcterms:modified xsi:type="dcterms:W3CDTF">2008-01-22T18:18:28Z</dcterms:modified>
  <cp:revision>3</cp:revision>
  <dc:subject/>
  <dc:title>Slide 1</dc:title>
</cp:coreProperties>
</file>