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64A-BC6A-4FC2-B04D-3A37BAFF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15B-2C86-4A1A-849F-C784101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7AE-F1AB-497D-B37A-D0F8A8FF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330-4602-48C4-ACEC-928F99D2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131-704F-452B-978B-DA10B30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B00-3CB6-4FD4-955D-14565EC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561-EC9C-4F19-9829-938E7117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6F9-818B-45B7-AD31-FD17B895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DF6-376C-40C0-B4AD-ED39D0B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30A-E1D2-4C30-AE08-20E9EB5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202-60D4-4FA4-AA57-3B96E75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C4E-73C5-48FD-AEDF-3FBF2F3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2E3F-6A4D-4D47-BA80-BEA6BF59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b-books" TargetMode="External"/><Relationship Id="rId3" Type="http://schemas.microsoft.com/office/2007/relationships/media" Target="file:///tmp/home/.config/libreoffice/4/user/gallery/b-book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        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las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4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219320"/>
            <a:ext cx="228600" cy="5105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1689120"/>
            <a:ext cx="7480440" cy="1968480"/>
            <a:chOff x="1143000" y="1689120"/>
            <a:chExt cx="7480440" cy="1968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568680" y="1689120"/>
              <a:ext cx="1523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1143000" y="2209680"/>
              <a:ext cx="74674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55600" y="2235240"/>
              <a:ext cx="746784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rawfo</cp:lastModifiedBy>
  <dcterms:modified xsi:type="dcterms:W3CDTF">2007-10-01T14:16:59Z</dcterms:modified>
  <cp:revision>2</cp:revision>
  <dc:subject/>
  <dc:title>My           Book</dc:title>
</cp:coreProperties>
</file>