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310F-4CC8-450F-A5FD-707870DD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33D-D257-4725-8FA8-E6D162FE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CBC0-E702-48F8-903C-D8EF18BD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9255-1D9A-450C-B10A-6F5F4050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B2C1-DC59-468F-A234-F9512C26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5BD5-9C12-4C67-8970-E2918066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1A2B-0FD5-42ED-A8FD-CA74F849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15D0-83BC-49E4-AF73-42E330C2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67C4-5434-4CBD-806B-00290A0B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21CD-85FC-4417-8A44-1B79CEC2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D45D-B7CE-4C81-8C71-F946387F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23CF-ED2C-4F54-A98A-F24D80CC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1753-4421-4073-B9E1-D418E6A3E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video" Target="file:///tmp/home/.config/libreoffice/4/user/gallery/b-books" TargetMode="External"/><Relationship Id="rId3" Type="http://schemas.microsoft.com/office/2007/relationships/media" Target="file:///tmp/home/.config/libreoffice/4/user/gallery/b-books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y          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lass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1047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1219320"/>
            <a:ext cx="228600" cy="51051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143000" y="1689120"/>
            <a:ext cx="7480440" cy="1968480"/>
            <a:chOff x="1143000" y="1689120"/>
            <a:chExt cx="7480440" cy="196848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3568680" y="1689120"/>
              <a:ext cx="152388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 flipV="1">
              <a:off x="1143000" y="2209680"/>
              <a:ext cx="74674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155600" y="2235240"/>
              <a:ext cx="746784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the Aut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3276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 is for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6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crawfo</cp:lastModifiedBy>
  <dcterms:modified xsi:type="dcterms:W3CDTF">2007-10-01T14:16:59Z</dcterms:modified>
  <cp:revision>2</cp:revision>
  <dc:subject/>
  <dc:title>My           Book</dc:title>
</cp:coreProperties>
</file>