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3E6E-235A-4B75-8F71-BE5AFAA31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566A-C614-4FE1-A643-2203CFBED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0509-A561-41DC-ADC9-01CA64C6B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4D00-EF17-4397-8220-570B1E103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BB9D-B920-4469-AE07-B30D79CF9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8630-4252-49D3-AD70-7CD8754CA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870D-B86F-4410-BEBE-0A2854CA3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2240-73F6-4F36-A0CE-79E9F33F4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F569-AD85-42CD-9945-AAD56D4BE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873A-0AFA-43B8-B2A6-F8F26AA6F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DFA8-CD4F-4C00-8D2C-429E8B358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ED37-2B68-4DDA-B7E8-59ADB1CFB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96C24-86F3-4A9E-81E1-AE94C3E3C9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video" Target="file:///tmp/home/.config/libreoffice/4/user/gallery/b-books" TargetMode="External"/><Relationship Id="rId3" Type="http://schemas.microsoft.com/office/2007/relationships/media" Target="file:///tmp/home/.config/libreoffice/4/user/gallery/b-books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My           B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Class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ool 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e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8381880" cy="1047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762120" y="1219320"/>
            <a:ext cx="228600" cy="510516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ff33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1143000" y="1689120"/>
            <a:ext cx="7480440" cy="1968480"/>
            <a:chOff x="1143000" y="1689120"/>
            <a:chExt cx="7480440" cy="1968480"/>
          </a:xfrm>
        </p:grpSpPr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3568680" y="1689120"/>
              <a:ext cx="1523880" cy="196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 flipV="1">
              <a:off x="1143000" y="2209680"/>
              <a:ext cx="7467480" cy="45720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155600" y="2235240"/>
              <a:ext cx="7467840" cy="45720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 is for _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 is for _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 is for _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 is for _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 is for _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 is for _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 is for _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 is for _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 is for _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 is for _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is for _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 is for _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 is for _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 is for _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 is for _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 is for _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 is for _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 is for _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 is for _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out the Auth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8229600" cy="3276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457164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__________________________________________________________________________________________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 is for boo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304920" y="6172200"/>
            <a:ext cx="40644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269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 is for _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 is for _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 is for _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 is for _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 is for _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 is for _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crawfo</cp:lastModifiedBy>
  <dcterms:modified xsi:type="dcterms:W3CDTF">2007-10-01T14:16:59Z</dcterms:modified>
  <cp:revision>2</cp:revision>
  <dc:subject/>
  <dc:title>My           Book</dc:title>
</cp:coreProperties>
</file>