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54E8-616E-4984-B4BE-FE451B5E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7C24-CC3B-4D14-91F7-5DE747E7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5868-1F40-4456-A532-E149A719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4FC0-6665-411A-B5C4-DBD3DCE9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3391-1A78-4211-9A3F-ED78A365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B54D-624D-4D36-91DF-6E9A2821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CFC-E5D3-4360-B3E5-AB1A7D79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1FEF-A3CE-444F-97A3-4BAC362D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CE2E-7E52-4361-BEB2-49F1C67D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110E-74D5-44F0-A17C-E607BAF7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17AD-106B-4731-B162-A551AA0A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26F6-6AB3-4210-A251-E2004B4A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E8A2-72F4-416A-A2B8-A5DDFA3BE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video" Target="file:///tmp/home/.config/libreoffice/4/user/gallery/b-books" TargetMode="External"/><Relationship Id="rId3" Type="http://schemas.microsoft.com/office/2007/relationships/media" Target="file:///tmp/home/.config/libreoffice/4/user/gallery/b-books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y          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lass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1047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2120" y="1219320"/>
            <a:ext cx="228600" cy="51051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143000" y="1689120"/>
            <a:ext cx="7480440" cy="1968480"/>
            <a:chOff x="1143000" y="1689120"/>
            <a:chExt cx="7480440" cy="196848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3568680" y="1689120"/>
              <a:ext cx="152388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 flipV="1">
              <a:off x="1143000" y="2209680"/>
              <a:ext cx="746748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155600" y="2235240"/>
              <a:ext cx="746784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the Auth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3276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 is for 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04920" y="6172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269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is for 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crawfo</cp:lastModifiedBy>
  <dcterms:modified xsi:type="dcterms:W3CDTF">2007-10-01T14:16:59Z</dcterms:modified>
  <cp:revision>2</cp:revision>
  <dc:subject/>
  <dc:title>My           Book</dc:title>
</cp:coreProperties>
</file>